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3710-7120-4281-AEB3-E3B0486A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A344-3AFB-4A02-ACFB-3D9BE28F7B3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3C17-8545-4273-BAB0-2BF160C28D5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FE08-3CB7-450F-AEA5-C70D6216D0D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2A2-042C-4A08-99F2-8A4374B417B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45BB-E95B-4DFC-A47D-41C64CCEF92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CC19-5D03-483C-B709-5FD005C0396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43F-3CFF-4743-BD1F-22604D21FB0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354D-1952-497F-A209-97A81619F99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7248-F2D9-419B-8397-363EEF1616F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A9C-51E9-4C6D-A9E9-CE8A352A7EE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C9C1-0F7D-440D-9A5A-D617912F8CD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2848-2AC3-47FA-B181-4EF48D6B2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B480-6651-4F4A-8BE2-2F56BCF79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8F28-D431-46DA-B202-A39E7F8B1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5952-8F1B-45FD-B57D-A8D7DB53E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F084-36ED-47B8-8739-063A10453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3E75-E2B9-4A9F-8004-437A81AFB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3B8C-B447-4B86-A0EC-5B61FA7FD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5CC5-A565-4DBB-9F59-4A0F553C8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44A2-41F4-4DD2-9898-35FBC6BC5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D83F-CC17-4263-9B68-7A9DC4E68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54B5-9D29-4A6C-87FB-1F9FD4156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C5AA-3F7F-4237-B512-D6F054DD7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739C-1CF8-4EAE-A711-F9331CA4BF3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rth’s bi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Picture 1027" descr=""/>
          <p:cNvPicPr/>
          <p:nvPr/>
        </p:nvPicPr>
        <p:blipFill>
          <a:blip r:embed="rId1"/>
          <a:srcRect l="0" t="0" r="902" b="4617"/>
          <a:stretch/>
        </p:blipFill>
        <p:spPr>
          <a:xfrm>
            <a:off x="685800" y="1276200"/>
            <a:ext cx="83818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rctic Tund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700200" y="1496880"/>
            <a:ext cx="8305560" cy="273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727200" y="4902480"/>
            <a:ext cx="818676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rctic, high-latitude, northern hemispher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dry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cold year rou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permafrost, lichens &amp; mosses, migrating animals &amp; resident herbivor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pine Tund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77960" y="1468440"/>
            <a:ext cx="7661160" cy="5106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4800" y="4869000"/>
            <a:ext cx="818676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high elevation at all latitud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dry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cold year rou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permafrost, lichens, mosses, grasses; migrating animals &amp; resident herbivor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vironmental facto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biotic facto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n-living chemical &amp; physical facto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emperatu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gh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tri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tic facto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ving compon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ima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4" name="Picture 4" descr="50-25a2-LowlandRainforest"/>
          <p:cNvPicPr/>
          <p:nvPr/>
        </p:nvPicPr>
        <p:blipFill>
          <a:blip r:embed="rId1"/>
          <a:stretch/>
        </p:blipFill>
        <p:spPr>
          <a:xfrm>
            <a:off x="4940280" y="4038480"/>
            <a:ext cx="40496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rin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58960" y="1363680"/>
            <a:ext cx="7704000" cy="5168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917280" y="6091920"/>
            <a:ext cx="136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tida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159320" y="3516840"/>
            <a:ext cx="143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al reef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40120" y="3961440"/>
            <a:ext cx="126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ntho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opical rainfores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797040" y="1355760"/>
            <a:ext cx="7734240" cy="5189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974880" y="4966920"/>
            <a:ext cx="7378560" cy="154512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equatoria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very we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lways war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many plants &amp; animals, thin soi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van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35120" y="1293840"/>
            <a:ext cx="8080200" cy="5383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974880" y="4835880"/>
            <a:ext cx="737856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equatoria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seasonal, dry season/wet seas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lways war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fire-adapted, drought tolerant plants; herbivores; fertile soi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se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11080" y="1397160"/>
            <a:ext cx="7855200" cy="5271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74880" y="4835880"/>
            <a:ext cx="755964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30°N &amp; S latitude ba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lmos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variable daily &amp; seasonally, hot &amp; col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sparse vegetation &amp; animals, cacti, succulents, drought tolerant, reptiles, insects, rodents, bird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mperate Grasslan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08120" y="1309680"/>
            <a:ext cx="8130960" cy="5386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974880" y="4763160"/>
            <a:ext cx="7670520" cy="186156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  <a:ea typeface="ＭＳ Ｐゴシック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: mid-latitudes, mid-continent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  <a:ea typeface="ＭＳ Ｐゴシック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: seasonal, dry season/wet seas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  <a:ea typeface="ＭＳ Ｐゴシック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: cold winters/hot summer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  <a:ea typeface="ＭＳ Ｐゴシック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: prairie grasses, fire-adapted, drought tolerant plants; many herbivores; deep, fertile soi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mperate Deciduous Fores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87240" y="1320840"/>
            <a:ext cx="8240760" cy="5460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974880" y="4835880"/>
            <a:ext cx="773892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mid-latitude, northern hemispher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dequate, summer rains, winter snow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moderate warm summer/cool wint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many mammals, insects, birds, etc.; deciduous trees; fertile soil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iferous Forest (Taiga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480" y="1335240"/>
            <a:ext cx="7896240" cy="5298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604800" y="5112720"/>
            <a:ext cx="8186760" cy="154512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high-latitude, northern hemispher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dequate to dry (temperate rain forest on coast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cool year rou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conifers; diverse mammals, birds, insects, etc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21:53Z</dcterms:created>
  <dc:creator>Jonathan</dc:creator>
  <dc:description>All Rights Reserved. Copyright 2003. WD Interactive.</dc:description>
  <cp:keywords>Education Biology Zone Kim Foglia</cp:keywords>
  <dc:language>en-US</dc:language>
  <cp:lastModifiedBy>Jonathan</cp:lastModifiedBy>
  <cp:lastPrinted>2006-10-26T04:32:19Z</cp:lastPrinted>
  <dcterms:modified xsi:type="dcterms:W3CDTF">2011-09-20T02:20:26Z</dcterms:modified>
  <cp:revision>7</cp:revision>
  <dc:subject>AP &amp; Regents Biology</dc:subject>
  <dc:title>Earth’s biomes</dc:title>
</cp:coreProperties>
</file>